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DC3-7509-406B-A1BE-20F3BF0A138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E04A-0AD6-4780-81DC-64480344DF7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0D11-51B5-4990-9CE1-D2D4606A835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corollary, need to make sure that your well-named files are organized in a logical directory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B55-A592-4A1F-89FA-2AB58AD1D5A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0C7-40FE-4739-97CF-25198626CAD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A2B-586E-49F8-B42A-EB470419003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60280" y="299880"/>
            <a:ext cx="69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 and Local Data Management; Presented 8 Nov 2011, APECS Webinar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 and Local Data Management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eager to hel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58720" y="4267080"/>
            <a:ext cx="11862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elvetica Neue Light"/>
              </a:rPr>
              <a:t>Local Data Management</a:t>
            </a: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Title 1"/>
          <p:cNvSpPr/>
          <p:nvPr/>
        </p:nvSpPr>
        <p:spPr>
          <a:xfrm>
            <a:off x="558720" y="5257800"/>
            <a:ext cx="1186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managing your own data)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07960" y="3357720"/>
            <a:ext cx="1186200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The 5 P</a:t>
            </a:r>
            <a:r>
              <a:rPr b="0" lang="ja-JP" sz="6800" spc="-1" strike="noStrike">
                <a:solidFill>
                  <a:srgbClr val="606060"/>
                </a:solidFill>
                <a:latin typeface="Arial"/>
                <a:ea typeface="Arial"/>
              </a:rPr>
              <a:t>’</a:t>
            </a: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s matter!</a:t>
            </a:r>
            <a:endParaRPr b="0" lang="en-US" sz="6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Arial"/>
                <a:ea typeface="Arial"/>
              </a:rPr>
              <a:t>(prior planning prevents poor performance)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le na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ing up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lbert’s file naming conven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4" descr="file_naming_convention_dilbert.jpg"/>
          <p:cNvPicPr/>
          <p:nvPr/>
        </p:nvPicPr>
        <p:blipFill>
          <a:blip r:embed="rId1"/>
          <a:srcRect l="27307" t="16157" r="29975" b="0"/>
          <a:stretch/>
        </p:blipFill>
        <p:spPr>
          <a:xfrm rot="16200000">
            <a:off x="4075920" y="75240"/>
            <a:ext cx="4402080" cy="11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Helvetica Neue Light"/>
              </a:rPr>
              <a:t>Assign descriptive file nam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71320" y="2324160"/>
            <a:ext cx="11861640" cy="689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File names should be </a:t>
            </a:r>
            <a:r>
              <a:rPr b="0" lang="en-US" sz="4000" spc="-1" strike="noStrike" u="sng">
                <a:solidFill>
                  <a:srgbClr val="606060"/>
                </a:solidFill>
                <a:uFillTx/>
                <a:latin typeface="Helvetica Neue"/>
              </a:rPr>
              <a:t>unique</a:t>
            </a: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 and </a:t>
            </a:r>
            <a:r>
              <a:rPr b="0" lang="en-US" sz="4000" spc="-1" strike="noStrike" u="sng">
                <a:solidFill>
                  <a:srgbClr val="606060"/>
                </a:solidFill>
                <a:uFillTx/>
                <a:latin typeface="Helvetica Neue"/>
              </a:rPr>
              <a:t>reflect the file contents 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Bad file names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y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2001_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A better file name might b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igfoot_agro_2000_gpp.ti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BigFoot is the project na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gro is the field site na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2000 is the calendar yea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PP represents Gross  Primary Productivity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if is the file type – GeoTIF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06060"/>
                </a:solidFill>
                <a:latin typeface="Helvetica Neue"/>
              </a:rPr>
              <a:t>But only if you document the naming convention!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Content Placeholder 3" descr="story told in file names.tiff"/>
          <p:cNvPicPr/>
          <p:nvPr/>
        </p:nvPicPr>
        <p:blipFill>
          <a:blip r:embed="rId1"/>
          <a:srcRect l="-12790" t="0" r="-12790" b="0"/>
          <a:stretch/>
        </p:blipFill>
        <p:spPr>
          <a:xfrm>
            <a:off x="-1422360" y="304920"/>
            <a:ext cx="15604920" cy="8582040"/>
          </a:xfrm>
          <a:prstGeom prst="rect">
            <a:avLst/>
          </a:prstGeom>
          <a:ln w="0">
            <a:noFill/>
          </a:ln>
        </p:spPr>
      </p:pic>
      <p:sp>
        <p:nvSpPr>
          <p:cNvPr id="784" name="Straight Connector 7"/>
          <p:cNvSpPr/>
          <p:nvPr/>
        </p:nvSpPr>
        <p:spPr>
          <a:xfrm>
            <a:off x="325440" y="8886960"/>
            <a:ext cx="122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5" descr=""/>
          <p:cNvPicPr/>
          <p:nvPr/>
        </p:nvPicPr>
        <p:blipFill>
          <a:blip r:embed="rId1"/>
          <a:stretch/>
        </p:blipFill>
        <p:spPr>
          <a:xfrm>
            <a:off x="231840" y="2003400"/>
            <a:ext cx="1933560" cy="19321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"/>
          <p:cNvPicPr/>
          <p:nvPr/>
        </p:nvPicPr>
        <p:blipFill>
          <a:blip r:embed="rId2"/>
          <a:stretch/>
        </p:blipFill>
        <p:spPr>
          <a:xfrm>
            <a:off x="841320" y="379260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"/>
          <p:cNvPicPr/>
          <p:nvPr/>
        </p:nvPicPr>
        <p:blipFill>
          <a:blip r:embed="rId3"/>
          <a:stretch/>
        </p:blipFill>
        <p:spPr>
          <a:xfrm>
            <a:off x="1708200" y="520236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" descr=""/>
          <p:cNvPicPr/>
          <p:nvPr/>
        </p:nvPicPr>
        <p:blipFill>
          <a:blip r:embed="rId4"/>
          <a:stretch/>
        </p:blipFill>
        <p:spPr>
          <a:xfrm>
            <a:off x="1708200" y="644832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5"/>
          <a:stretch/>
        </p:blipFill>
        <p:spPr>
          <a:xfrm>
            <a:off x="841320" y="74772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790" name="TextBox 10"/>
          <p:cNvSpPr/>
          <p:nvPr/>
        </p:nvSpPr>
        <p:spPr>
          <a:xfrm>
            <a:off x="206280" y="2427120"/>
            <a:ext cx="18363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TextBox 11"/>
          <p:cNvSpPr/>
          <p:nvPr/>
        </p:nvSpPr>
        <p:spPr>
          <a:xfrm>
            <a:off x="1034640" y="4335480"/>
            <a:ext cx="8733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ke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TextBox 12"/>
          <p:cNvSpPr/>
          <p:nvPr/>
        </p:nvSpPr>
        <p:spPr>
          <a:xfrm>
            <a:off x="1483200" y="5527800"/>
            <a:ext cx="17449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2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518480" y="6765840"/>
            <a:ext cx="1492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eld work</a:t>
            </a:r>
            <a:endParaRPr b="0" lang="en-US" sz="2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TextBox 14"/>
          <p:cNvSpPr/>
          <p:nvPr/>
        </p:nvSpPr>
        <p:spPr>
          <a:xfrm>
            <a:off x="743400" y="8020080"/>
            <a:ext cx="15850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ssland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TextBox 15"/>
          <p:cNvSpPr/>
          <p:nvPr/>
        </p:nvSpPr>
        <p:spPr>
          <a:xfrm>
            <a:off x="3648960" y="4984920"/>
            <a:ext cx="558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heatExp_2005_2008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TextBox 16"/>
          <p:cNvSpPr/>
          <p:nvPr/>
        </p:nvSpPr>
        <p:spPr>
          <a:xfrm>
            <a:off x="3653280" y="5576760"/>
            <a:ext cx="6201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predatorExp_2001_2003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TextBox 17"/>
          <p:cNvSpPr/>
          <p:nvPr/>
        </p:nvSpPr>
        <p:spPr>
          <a:xfrm>
            <a:off x="3670560" y="6561000"/>
            <a:ext cx="7367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planktonCount_start2001_active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TextBox 18"/>
          <p:cNvSpPr/>
          <p:nvPr/>
        </p:nvSpPr>
        <p:spPr>
          <a:xfrm>
            <a:off x="3648600" y="7064280"/>
            <a:ext cx="5364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chla_profiles_2003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TextBox 19"/>
          <p:cNvSpPr/>
          <p:nvPr/>
        </p:nvSpPr>
        <p:spPr>
          <a:xfrm>
            <a:off x="3556440" y="5673600"/>
            <a:ext cx="6292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TextBox 20"/>
          <p:cNvSpPr/>
          <p:nvPr/>
        </p:nvSpPr>
        <p:spPr>
          <a:xfrm>
            <a:off x="3556440" y="7319880"/>
            <a:ext cx="6292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3440" y="390600"/>
            <a:ext cx="8128080" cy="134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Helvetica Neue Light"/>
              </a:rPr>
              <a:t>Organize files logically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09720" y="2058840"/>
            <a:ext cx="7477200" cy="216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</a:rPr>
              <a:t>Make sure your file system is logical and effici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TextBox 21"/>
          <p:cNvSpPr/>
          <p:nvPr/>
        </p:nvSpPr>
        <p:spPr>
          <a:xfrm>
            <a:off x="7035840" y="8561520"/>
            <a:ext cx="4776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S. Hampton, UC-Santa Barbara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81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ponsible Data Us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ir access and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itation and credi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ing feedbac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 nam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Backing up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 and meta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635040" y="4114800"/>
            <a:ext cx="1179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Backup Your Data!!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7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96534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?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9" name="Picture 5" descr="InsertedImage-small.jpg"/>
          <p:cNvPicPr/>
          <p:nvPr/>
        </p:nvPicPr>
        <p:blipFill>
          <a:blip r:embed="rId2"/>
          <a:stretch/>
        </p:blipFill>
        <p:spPr>
          <a:xfrm>
            <a:off x="9380520" y="4878360"/>
            <a:ext cx="2656080" cy="11955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InsertedImage.jpg"/>
          <p:cNvPicPr/>
          <p:nvPr/>
        </p:nvPicPr>
        <p:blipFill>
          <a:blip r:embed="rId3"/>
          <a:stretch/>
        </p:blipFill>
        <p:spPr>
          <a:xfrm>
            <a:off x="7684920" y="3100320"/>
            <a:ext cx="2540160" cy="17780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InsertedImage.jpg"/>
          <p:cNvPicPr/>
          <p:nvPr/>
        </p:nvPicPr>
        <p:blipFill>
          <a:blip r:embed="rId4"/>
          <a:stretch/>
        </p:blipFill>
        <p:spPr>
          <a:xfrm>
            <a:off x="6251400" y="5715000"/>
            <a:ext cx="295920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8"/>
          <p:cNvSpPr/>
          <p:nvPr/>
        </p:nvSpPr>
        <p:spPr>
          <a:xfrm>
            <a:off x="426960" y="3618000"/>
            <a:ext cx="779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Broken DVD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Rectangle 9"/>
          <p:cNvSpPr/>
          <p:nvPr/>
        </p:nvSpPr>
        <p:spPr>
          <a:xfrm>
            <a:off x="426960" y="480060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burned up memory stick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426960" y="6934320"/>
            <a:ext cx="54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crashed hard driv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426960" y="5803920"/>
            <a:ext cx="472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drowned laptop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6" name="Picture 12" descr="InsertedImage.gif"/>
          <p:cNvPicPr/>
          <p:nvPr/>
        </p:nvPicPr>
        <p:blipFill>
          <a:blip r:embed="rId5"/>
          <a:stretch/>
        </p:blipFill>
        <p:spPr>
          <a:xfrm>
            <a:off x="5956200" y="5591160"/>
            <a:ext cx="6508800" cy="39337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"/>
          <p:cNvSpPr/>
          <p:nvPr/>
        </p:nvSpPr>
        <p:spPr>
          <a:xfrm>
            <a:off x="330120" y="2309760"/>
            <a:ext cx="9525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You think it's easy to recover data off a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Backing up your data fil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541080" y="2276280"/>
            <a:ext cx="11828520" cy="717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e back-up copies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ally three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iginal, one on-site (external), and one off-sit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requency based on need / ri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igher value data should be backed up more oft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or data collected at high frequency should be backed up more frequent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e that all backup copies are identical to the original fi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checksums or file comparis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Test you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541080" y="2276280"/>
            <a:ext cx="11828520" cy="66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utomatically test backup copies of files frequently to ensure they are viabl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dia degrade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est copies using check sum or file compar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e certain that you can recover from a data los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Formats – 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use a proprietary forma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se have a short shelf life and will probably become unreadable after a few yea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invent your own forma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 one but you will have the tools to read i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open source, well-documented, community-based standard formats where ever possible especially if they are self-describ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lf-describing data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ormation describing the data contents of the file are embedded within the data file itself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es for various fiel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types – Standardized, portable, machine independ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inters to various fields, making it efficient to extract the particular fields you want without reading the entir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es and flags related to the primary fields with extra information such as units, fill values, etc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a standard API and portable data access libraries in a variety of languag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tools that can open and work with arbitrary files, using the embedded descriptions to interpret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 self-describing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635040" y="3886200"/>
            <a:ext cx="1179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Documentation (metadata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3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41372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oor data practice results in loss of information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33" name="Group 5"/>
          <p:cNvGrpSpPr/>
          <p:nvPr/>
        </p:nvGrpSpPr>
        <p:grpSpPr>
          <a:xfrm>
            <a:off x="1236600" y="2197080"/>
            <a:ext cx="10252440" cy="7223400"/>
            <a:chOff x="1236600" y="2197080"/>
            <a:chExt cx="10252440" cy="7223400"/>
          </a:xfrm>
        </p:grpSpPr>
        <p:grpSp>
          <p:nvGrpSpPr>
            <p:cNvPr id="834" name="Group 6"/>
            <p:cNvGrpSpPr/>
            <p:nvPr/>
          </p:nvGrpSpPr>
          <p:grpSpPr>
            <a:xfrm>
              <a:off x="1958760" y="2854800"/>
              <a:ext cx="9311760" cy="5939280"/>
              <a:chOff x="1958760" y="2854800"/>
              <a:chExt cx="9311760" cy="5939280"/>
            </a:xfrm>
          </p:grpSpPr>
          <p:sp>
            <p:nvSpPr>
              <p:cNvPr id="835" name="Line 7"/>
              <p:cNvSpPr/>
              <p:nvPr/>
            </p:nvSpPr>
            <p:spPr>
              <a:xfrm>
                <a:off x="1958760" y="2854800"/>
                <a:ext cx="11160" cy="59252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6" name="Line 8"/>
              <p:cNvSpPr/>
              <p:nvPr/>
            </p:nvSpPr>
            <p:spPr>
              <a:xfrm>
                <a:off x="1984320" y="8780040"/>
                <a:ext cx="9286200" cy="140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7" name="AutoShape 9"/>
              <p:cNvSpPr/>
              <p:nvPr/>
            </p:nvSpPr>
            <p:spPr>
              <a:xfrm rot="10920000">
                <a:off x="2479320" y="3121560"/>
                <a:ext cx="4222800" cy="281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3" y="0"/>
                      <a:pt x="7" y="0"/>
                      <a:pt x="11" y="0"/>
                    </a:cubicBezTo>
                    <a:cubicBezTo>
                      <a:pt x="11934" y="0"/>
                      <a:pt x="21600" y="9584"/>
                      <a:pt x="21600" y="21408"/>
                    </a:cubicBezTo>
                    <a:cubicBezTo>
                      <a:pt x="21600" y="21472"/>
                      <a:pt x="21599" y="21535"/>
                      <a:pt x="21599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8" name="AutoShape 10"/>
              <p:cNvSpPr/>
              <p:nvPr/>
            </p:nvSpPr>
            <p:spPr>
              <a:xfrm rot="10920000">
                <a:off x="6601680" y="6051240"/>
                <a:ext cx="1815120" cy="1916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3514" y="4904"/>
                      <a:pt x="21586" y="12976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9" name="AutoShape 11"/>
              <p:cNvSpPr/>
              <p:nvPr/>
            </p:nvSpPr>
            <p:spPr>
              <a:xfrm>
                <a:off x="8390880" y="8005680"/>
                <a:ext cx="214308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1600"/>
                    </a:moveTo>
                    <a:cubicBezTo>
                      <a:pt x="9666" y="21588"/>
                      <a:pt x="0" y="11920"/>
                      <a:pt x="0" y="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40" name="AutoShape 12"/>
              <p:cNvSpPr/>
              <p:nvPr/>
            </p:nvSpPr>
            <p:spPr>
              <a:xfrm rot="10800000">
                <a:off x="5105880" y="5824080"/>
                <a:ext cx="543600" cy="294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2406" y="1577"/>
                      <a:pt x="21600" y="10770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41" name="Line 13"/>
              <p:cNvSpPr/>
              <p:nvPr/>
            </p:nvSpPr>
            <p:spPr>
              <a:xfrm flipH="1">
                <a:off x="1958760" y="3033000"/>
                <a:ext cx="569520" cy="1116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</p:grpSp>
        <p:sp>
          <p:nvSpPr>
            <p:cNvPr id="842" name="Rectangle 14"/>
            <p:cNvSpPr/>
            <p:nvPr/>
          </p:nvSpPr>
          <p:spPr>
            <a:xfrm rot="16200000">
              <a:off x="-940680" y="5477760"/>
              <a:ext cx="50025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Content</a:t>
              </a:r>
              <a:endParaRPr b="0" lang="en-US" sz="3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3" name="Rectangle 15"/>
            <p:cNvSpPr/>
            <p:nvPr/>
          </p:nvSpPr>
          <p:spPr>
            <a:xfrm>
              <a:off x="5995800" y="8748360"/>
              <a:ext cx="12805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3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4" name="Rectangle 16"/>
            <p:cNvSpPr/>
            <p:nvPr/>
          </p:nvSpPr>
          <p:spPr>
            <a:xfrm>
              <a:off x="3380040" y="2197080"/>
              <a:ext cx="3579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of publication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5" name="Rectangle 17"/>
            <p:cNvSpPr/>
            <p:nvPr/>
          </p:nvSpPr>
          <p:spPr>
            <a:xfrm>
              <a:off x="3889440" y="2995560"/>
              <a:ext cx="290340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 details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6" name="Rectangle 18"/>
            <p:cNvSpPr/>
            <p:nvPr/>
          </p:nvSpPr>
          <p:spPr>
            <a:xfrm>
              <a:off x="4790160" y="3857760"/>
              <a:ext cx="2865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 details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7" name="Rectangle 19"/>
            <p:cNvSpPr/>
            <p:nvPr/>
          </p:nvSpPr>
          <p:spPr>
            <a:xfrm>
              <a:off x="2301120" y="6239880"/>
              <a:ext cx="1815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ident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8" name="Rectangle 20"/>
            <p:cNvSpPr/>
            <p:nvPr/>
          </p:nvSpPr>
          <p:spPr>
            <a:xfrm>
              <a:off x="7607520" y="4935240"/>
              <a:ext cx="273924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ement or 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eer change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9" name="Rectangle 21"/>
            <p:cNvSpPr/>
            <p:nvPr/>
          </p:nvSpPr>
          <p:spPr>
            <a:xfrm>
              <a:off x="9610200" y="7214040"/>
              <a:ext cx="1283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ath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0" name="Line 22"/>
            <p:cNvSpPr/>
            <p:nvPr/>
          </p:nvSpPr>
          <p:spPr>
            <a:xfrm flipV="1">
              <a:off x="2631960" y="2501640"/>
              <a:ext cx="8517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1" name="Line 23"/>
            <p:cNvSpPr/>
            <p:nvPr/>
          </p:nvSpPr>
          <p:spPr>
            <a:xfrm flipV="1">
              <a:off x="2859480" y="3248640"/>
              <a:ext cx="105300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2" name="Line 24"/>
            <p:cNvSpPr/>
            <p:nvPr/>
          </p:nvSpPr>
          <p:spPr>
            <a:xfrm flipV="1">
              <a:off x="4091040" y="4363200"/>
              <a:ext cx="725040" cy="6980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3" name="Line 25"/>
            <p:cNvSpPr/>
            <p:nvPr/>
          </p:nvSpPr>
          <p:spPr>
            <a:xfrm flipV="1">
              <a:off x="6844680" y="5363280"/>
              <a:ext cx="736560" cy="5976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4" name="Line 26"/>
            <p:cNvSpPr/>
            <p:nvPr/>
          </p:nvSpPr>
          <p:spPr>
            <a:xfrm flipV="1">
              <a:off x="8482320" y="7466760"/>
              <a:ext cx="106452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5" name="Line 27"/>
            <p:cNvSpPr/>
            <p:nvPr/>
          </p:nvSpPr>
          <p:spPr>
            <a:xfrm flipV="1">
              <a:off x="4154400" y="5961240"/>
              <a:ext cx="7365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6" name="Rectangle 28"/>
            <p:cNvSpPr/>
            <p:nvPr/>
          </p:nvSpPr>
          <p:spPr>
            <a:xfrm>
              <a:off x="8749800" y="8774280"/>
              <a:ext cx="27392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ichener et al. 1997)</a:t>
              </a:r>
              <a:endParaRPr b="0" lang="en-US" sz="1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0184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n't you think it would be more effici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57168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422280"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f you didn't have to remember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name of that file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d the directory where you put it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units those measurements were taken in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ich sample site was which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tc.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58720" y="2590920"/>
            <a:ext cx="11862000" cy="365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Title 1"/>
          <p:cNvSpPr/>
          <p:nvPr/>
        </p:nvSpPr>
        <p:spPr>
          <a:xfrm>
            <a:off x="482760" y="2819520"/>
            <a:ext cx="11861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king Your Research Easier and Cheap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000" y="4206960"/>
            <a:ext cx="1186164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Write it down!</a:t>
            </a:r>
            <a:endParaRPr b="0" lang="en-US" sz="6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eeded Document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6" name="Content Placeholder 4" descr=""/>
          <p:cNvPicPr/>
          <p:nvPr/>
        </p:nvPicPr>
        <p:blipFill>
          <a:blip r:embed="rId1"/>
          <a:stretch/>
        </p:blipFill>
        <p:spPr>
          <a:xfrm>
            <a:off x="566640" y="2322360"/>
            <a:ext cx="119239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ocumentation Best Practic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 your conventions as they</a:t>
            </a:r>
            <a:r>
              <a:rPr b="0" lang="ja-JP" sz="3400" spc="-1" strike="noStrike">
                <a:solidFill>
                  <a:srgbClr val="606060"/>
                </a:solidFill>
                <a:latin typeface="Helvetica Neue"/>
              </a:rPr>
              <a:t>’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 establish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se documentation contemporaneously, not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fter the fact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work is also the basis for end-user or reviewer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hould you document? Everything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import, manipulation, QC procedures, special flags and enco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ing conventions, layouts, headings, units and abbrevi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EMP mean 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emporary,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ir temperature at time of observation,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or 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ulae and consta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0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ichener, W.K., Brunt, J.W., Helly, J.J., Kirchner, T.B. and S. G. Stafford. 1997. “Nongeospatial metadata for the ecological sciences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cological Application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7(1):330-342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58720" y="3200400"/>
            <a:ext cx="1164600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6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share your data if you didn’t know that you were going to be given credit for your work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1-11-29T16:59:15Z</dcterms:modified>
  <cp:revision>72</cp:revision>
  <dc:subject/>
  <dc:title>ESIP Federation 101</dc:title>
</cp:coreProperties>
</file>